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F71-5B2D-444A-8C8C-A065FEBB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18C-C5D9-4B21-8AF7-F2EBE832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56B-A60F-41B2-AAEE-FD04F8CF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00A-89A1-468D-908A-DD00D9D1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482-28EC-483D-B218-BDFD8913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03B-B0B0-4933-AE7A-BF79564A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502-E940-4BB0-B92D-51FB7A31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437-EE43-47D3-90D1-0EF32220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E3B-87C7-493D-86BE-A7AFC1E1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DCF-C656-415E-AACF-5929A9F1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B48-7C74-4BA3-A7AD-E7FA1F6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7C7-A0A5-45CB-B460-9D15FCAD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2043-3F1D-4F9A-84A2-831E8BB0C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elcome Back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lling Revi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o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th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1. becaus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wh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th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bu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frie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.Cobb</cp:lastModifiedBy>
  <dcterms:modified xsi:type="dcterms:W3CDTF">2007-08-27T00:16:01Z</dcterms:modified>
  <cp:revision>4</cp:revision>
  <dc:subject/>
  <dc:title>The Art Lesson Group A</dc:title>
</cp:coreProperties>
</file>